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F54-7277-4807-8624-E8DE0745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93E-9E9B-4093-8FE4-2D389E84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E06-C3B2-4A97-AF35-82EB9897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4416-C684-4552-AF5E-8AD2F68B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E1FB-A974-4269-8960-76FE78EF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6C5-F45D-4DDA-98D0-BB518E86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D50-B862-47EC-B78E-EADF1EBA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60C6-7905-4F27-8BF2-E1A00DF5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3CC3-1D1C-4F6C-B1DD-F2C1B644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571-695D-44F5-8FD9-EEA038E1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F089-B64F-4F35-B3AB-8AA412C7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134-0EE8-4465-AEB7-E6E5A3C6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4C0B-F323-4154-B27A-7CADEAEE3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682640"/>
            <a:ext cx="4570200" cy="457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682640"/>
            <a:ext cx="457200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684360" y="1682640"/>
            <a:ext cx="457200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13120" y="1670040"/>
            <a:ext cx="3243240" cy="3249720"/>
          </a:xfrm>
          <a:custGeom>
            <a:avLst/>
            <a:gdLst/>
            <a:ahLst/>
            <a:rect l="l" t="t" r="r" b="b"/>
            <a:pathLst>
              <a:path w="2043" h="2047">
                <a:moveTo>
                  <a:pt x="0" y="0"/>
                </a:moveTo>
                <a:cubicBezTo>
                  <a:pt x="3" y="47"/>
                  <a:pt x="6" y="181"/>
                  <a:pt x="23" y="285"/>
                </a:cubicBezTo>
                <a:cubicBezTo>
                  <a:pt x="40" y="389"/>
                  <a:pt x="58" y="496"/>
                  <a:pt x="103" y="622"/>
                </a:cubicBezTo>
                <a:cubicBezTo>
                  <a:pt x="148" y="748"/>
                  <a:pt x="209" y="905"/>
                  <a:pt x="292" y="1043"/>
                </a:cubicBezTo>
                <a:cubicBezTo>
                  <a:pt x="375" y="1181"/>
                  <a:pt x="498" y="1337"/>
                  <a:pt x="603" y="1448"/>
                </a:cubicBezTo>
                <a:cubicBezTo>
                  <a:pt x="708" y="1559"/>
                  <a:pt x="797" y="1627"/>
                  <a:pt x="921" y="1706"/>
                </a:cubicBezTo>
                <a:cubicBezTo>
                  <a:pt x="1045" y="1785"/>
                  <a:pt x="1212" y="1873"/>
                  <a:pt x="1346" y="1925"/>
                </a:cubicBezTo>
                <a:cubicBezTo>
                  <a:pt x="1480" y="1977"/>
                  <a:pt x="1612" y="2000"/>
                  <a:pt x="1728" y="2020"/>
                </a:cubicBezTo>
                <a:cubicBezTo>
                  <a:pt x="1844" y="2040"/>
                  <a:pt x="1978" y="2042"/>
                  <a:pt x="2043" y="2047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662760" y="1682640"/>
            <a:ext cx="3243240" cy="3249720"/>
          </a:xfrm>
          <a:custGeom>
            <a:avLst/>
            <a:gdLst/>
            <a:ahLst/>
            <a:rect l="l" t="t" r="r" b="b"/>
            <a:pathLst>
              <a:path w="2043" h="2047">
                <a:moveTo>
                  <a:pt x="0" y="0"/>
                </a:moveTo>
                <a:cubicBezTo>
                  <a:pt x="3" y="47"/>
                  <a:pt x="6" y="181"/>
                  <a:pt x="23" y="285"/>
                </a:cubicBezTo>
                <a:cubicBezTo>
                  <a:pt x="40" y="389"/>
                  <a:pt x="58" y="496"/>
                  <a:pt x="103" y="622"/>
                </a:cubicBezTo>
                <a:cubicBezTo>
                  <a:pt x="148" y="748"/>
                  <a:pt x="209" y="905"/>
                  <a:pt x="292" y="1043"/>
                </a:cubicBezTo>
                <a:cubicBezTo>
                  <a:pt x="375" y="1181"/>
                  <a:pt x="498" y="1337"/>
                  <a:pt x="603" y="1448"/>
                </a:cubicBezTo>
                <a:cubicBezTo>
                  <a:pt x="708" y="1559"/>
                  <a:pt x="797" y="1627"/>
                  <a:pt x="921" y="1706"/>
                </a:cubicBezTo>
                <a:cubicBezTo>
                  <a:pt x="1045" y="1785"/>
                  <a:pt x="1212" y="1873"/>
                  <a:pt x="1346" y="1925"/>
                </a:cubicBezTo>
                <a:cubicBezTo>
                  <a:pt x="1480" y="1977"/>
                  <a:pt x="1612" y="2000"/>
                  <a:pt x="1728" y="2020"/>
                </a:cubicBezTo>
                <a:cubicBezTo>
                  <a:pt x="1844" y="2040"/>
                  <a:pt x="1978" y="2042"/>
                  <a:pt x="2043" y="2047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692640" y="3040200"/>
            <a:ext cx="3243240" cy="3249360"/>
          </a:xfrm>
          <a:custGeom>
            <a:avLst/>
            <a:gdLst/>
            <a:ahLst/>
            <a:rect l="l" t="t" r="r" b="b"/>
            <a:pathLst>
              <a:path w="2043" h="2047">
                <a:moveTo>
                  <a:pt x="0" y="0"/>
                </a:moveTo>
                <a:cubicBezTo>
                  <a:pt x="3" y="47"/>
                  <a:pt x="6" y="181"/>
                  <a:pt x="23" y="285"/>
                </a:cubicBezTo>
                <a:cubicBezTo>
                  <a:pt x="40" y="389"/>
                  <a:pt x="58" y="496"/>
                  <a:pt x="103" y="622"/>
                </a:cubicBezTo>
                <a:cubicBezTo>
                  <a:pt x="148" y="748"/>
                  <a:pt x="209" y="905"/>
                  <a:pt x="292" y="1043"/>
                </a:cubicBezTo>
                <a:cubicBezTo>
                  <a:pt x="375" y="1181"/>
                  <a:pt x="498" y="1337"/>
                  <a:pt x="603" y="1448"/>
                </a:cubicBezTo>
                <a:cubicBezTo>
                  <a:pt x="708" y="1559"/>
                  <a:pt x="797" y="1627"/>
                  <a:pt x="921" y="1706"/>
                </a:cubicBezTo>
                <a:cubicBezTo>
                  <a:pt x="1045" y="1785"/>
                  <a:pt x="1212" y="1873"/>
                  <a:pt x="1346" y="1925"/>
                </a:cubicBezTo>
                <a:cubicBezTo>
                  <a:pt x="1480" y="1977"/>
                  <a:pt x="1612" y="2000"/>
                  <a:pt x="1728" y="2020"/>
                </a:cubicBezTo>
                <a:cubicBezTo>
                  <a:pt x="1844" y="2040"/>
                  <a:pt x="1978" y="2042"/>
                  <a:pt x="2043" y="2047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2037960" y="3004920"/>
            <a:ext cx="3243240" cy="3249720"/>
          </a:xfrm>
          <a:custGeom>
            <a:avLst/>
            <a:gdLst/>
            <a:ahLst/>
            <a:rect l="l" t="t" r="r" b="b"/>
            <a:pathLst>
              <a:path w="2043" h="2047">
                <a:moveTo>
                  <a:pt x="0" y="0"/>
                </a:moveTo>
                <a:cubicBezTo>
                  <a:pt x="3" y="47"/>
                  <a:pt x="6" y="181"/>
                  <a:pt x="23" y="285"/>
                </a:cubicBezTo>
                <a:cubicBezTo>
                  <a:pt x="40" y="389"/>
                  <a:pt x="58" y="496"/>
                  <a:pt x="103" y="622"/>
                </a:cubicBezTo>
                <a:cubicBezTo>
                  <a:pt x="148" y="748"/>
                  <a:pt x="209" y="905"/>
                  <a:pt x="292" y="1043"/>
                </a:cubicBezTo>
                <a:cubicBezTo>
                  <a:pt x="375" y="1181"/>
                  <a:pt x="498" y="1337"/>
                  <a:pt x="603" y="1448"/>
                </a:cubicBezTo>
                <a:cubicBezTo>
                  <a:pt x="708" y="1559"/>
                  <a:pt x="797" y="1627"/>
                  <a:pt x="921" y="1706"/>
                </a:cubicBezTo>
                <a:cubicBezTo>
                  <a:pt x="1045" y="1785"/>
                  <a:pt x="1212" y="1873"/>
                  <a:pt x="1346" y="1925"/>
                </a:cubicBezTo>
                <a:cubicBezTo>
                  <a:pt x="1480" y="1977"/>
                  <a:pt x="1612" y="2000"/>
                  <a:pt x="1728" y="2020"/>
                </a:cubicBezTo>
                <a:cubicBezTo>
                  <a:pt x="1844" y="2040"/>
                  <a:pt x="1978" y="2042"/>
                  <a:pt x="2043" y="2047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24360" y="1681200"/>
            <a:ext cx="1330200" cy="13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80760" y="1690560"/>
            <a:ext cx="1330200" cy="133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38400" y="4921200"/>
            <a:ext cx="1330200" cy="13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669600" y="4920840"/>
            <a:ext cx="1330200" cy="133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03400" y="6253200"/>
            <a:ext cx="19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254560" y="3020760"/>
            <a:ext cx="0" cy="19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030400" y="1681200"/>
            <a:ext cx="1874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2560" y="3021120"/>
            <a:ext cx="0" cy="191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600" y="609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ke an Octagon in a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08520" y="1192320"/>
            <a:ext cx="34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 1. Draw the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08520" y="2225520"/>
            <a:ext cx="34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 2. Draw diag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35520" y="3022560"/>
            <a:ext cx="340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 3. Set the compass to ½ the diagonal and mark them from each cor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35520" y="5468760"/>
            <a:ext cx="34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 4. Join up the co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280" y="1690560"/>
            <a:ext cx="2273040" cy="2271960"/>
          </a:xfrm>
          <a:custGeom>
            <a:avLst/>
            <a:gdLst/>
            <a:ahLst/>
            <a:rect l="l" t="t" r="r" b="b"/>
            <a:pathLst>
              <a:path w="1432" h="1431">
                <a:moveTo>
                  <a:pt x="1432" y="1431"/>
                </a:moveTo>
                <a:lnTo>
                  <a:pt x="1432" y="384"/>
                </a:lnTo>
                <a:lnTo>
                  <a:pt x="0" y="0"/>
                </a:lnTo>
                <a:lnTo>
                  <a:pt x="1257" y="506"/>
                </a:lnTo>
                <a:lnTo>
                  <a:pt x="1432" y="1431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2978280" y="3976200"/>
            <a:ext cx="2273040" cy="2271960"/>
          </a:xfrm>
          <a:custGeom>
            <a:avLst/>
            <a:gdLst/>
            <a:ahLst/>
            <a:rect l="l" t="t" r="r" b="b"/>
            <a:pathLst>
              <a:path w="1432" h="1431">
                <a:moveTo>
                  <a:pt x="1432" y="1431"/>
                </a:moveTo>
                <a:lnTo>
                  <a:pt x="1432" y="384"/>
                </a:lnTo>
                <a:lnTo>
                  <a:pt x="0" y="0"/>
                </a:lnTo>
                <a:lnTo>
                  <a:pt x="1257" y="506"/>
                </a:lnTo>
                <a:lnTo>
                  <a:pt x="1432" y="1431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691200" y="3991320"/>
            <a:ext cx="2273400" cy="2271600"/>
          </a:xfrm>
          <a:custGeom>
            <a:avLst/>
            <a:gdLst/>
            <a:ahLst/>
            <a:rect l="l" t="t" r="r" b="b"/>
            <a:pathLst>
              <a:path w="1432" h="1431">
                <a:moveTo>
                  <a:pt x="1432" y="1431"/>
                </a:moveTo>
                <a:lnTo>
                  <a:pt x="1432" y="384"/>
                </a:lnTo>
                <a:lnTo>
                  <a:pt x="0" y="0"/>
                </a:lnTo>
                <a:lnTo>
                  <a:pt x="1257" y="506"/>
                </a:lnTo>
                <a:lnTo>
                  <a:pt x="1432" y="1431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 rot="16200000">
            <a:off x="2950200" y="1733040"/>
            <a:ext cx="2273400" cy="2271600"/>
          </a:xfrm>
          <a:custGeom>
            <a:avLst/>
            <a:gdLst/>
            <a:ahLst/>
            <a:rect l="l" t="t" r="r" b="b"/>
            <a:pathLst>
              <a:path w="1432" h="1431">
                <a:moveTo>
                  <a:pt x="1432" y="1431"/>
                </a:moveTo>
                <a:lnTo>
                  <a:pt x="1432" y="384"/>
                </a:lnTo>
                <a:lnTo>
                  <a:pt x="0" y="0"/>
                </a:lnTo>
                <a:lnTo>
                  <a:pt x="1257" y="506"/>
                </a:lnTo>
                <a:lnTo>
                  <a:pt x="1432" y="1431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04:46:58Z</dcterms:created>
  <dc:creator>GREG CHEETHAM</dc:creator>
  <dc:description/>
  <dc:language>en-US</dc:language>
  <cp:lastModifiedBy>GREG CHEETHAM</cp:lastModifiedBy>
  <dcterms:modified xsi:type="dcterms:W3CDTF">2007-09-01T06:54:44Z</dcterms:modified>
  <cp:revision>2</cp:revision>
  <dc:subject/>
  <dc:title>PowerPoint Presentation</dc:title>
</cp:coreProperties>
</file>